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FA7DC-1D0F-4925-8D78-0A0EB5A859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ok title The Great Gatsby. The books author Frances Scott Fitzgerald. PowerPoint is by Rachel Waldner or m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inth literary device is a simile. A simile is a figure of speech using a word or phrase such as like or as to compare seemingly unlike things. This is a simile because it relates two unlike things by using the word like and as. The simile is the curtains are being related to pale flags and the wind is being related to the sea and how they both make a shadow.</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nth literary device is a symbol. A symbol is any object, person, place, or experience that exists on a literal level but also represents something else, usually something abstract. The green light at the end of Daisy’s dock symbolizes Jay Gatsby’s hope that Daisy will come back to him, his hope that Daisy still loves him, and his hope that Daisy is still waiting for him.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d of my PowerPoint. Thank you for watching and reading.</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literary device is an alliteration. An alliteration is the repetition of similar sounds, most often consonant sounds, at the beginnings of words. This quote from the book is an alliteration because there are a lot of s words in it that repeat the same sound.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literary device is an allusion. An allusion is a reference to a character, a place, or a situation from history or from music, art, or another work of literature. Mendelssohn’s Wedding March relates back to Shakespeare’s play </a:t>
            </a:r>
            <a:r>
              <a:rPr b="0" i="1" lang="en-US" sz="1200" spc="-1" strike="noStrike">
                <a:solidFill>
                  <a:srgbClr val="000000"/>
                </a:solidFill>
                <a:latin typeface="Arial"/>
              </a:rPr>
              <a:t>A Midsummer Night’s Dream</a:t>
            </a:r>
            <a:r>
              <a:rPr b="0" lang="en-US" sz="1200" spc="-1" strike="noStrike">
                <a:solidFill>
                  <a:srgbClr val="000000"/>
                </a:solidFill>
                <a:latin typeface="Arial"/>
              </a:rPr>
              <a:t>, but it became famous when princess Victoria Adelaide Mary Louise (Queen Victoria’s daughter) got married to Fredrick William IV of Prussia.</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ird literary device is an antagonist. An antagonist is a person or a force that opposes the protagonist, or the central character, in a story or drama. The antagonist is Tom Buchanan because he opposes Gatsby and he’s the reason why Daisy won’t go back to Gatsb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rth literary device is the climax. The climax is the point of greatest emotional intensity, interest, or suspense in a narrative. Usually the climax is the turning point in a story or drama. This is a huge argument that lasts about the whole seventh chapter. The argument of course is about Daisy and if she even loved Tom at all or if she loved Gatsby the whole time. This is a stupid argument because she picks Tom instead of Gatsby and Gatsby just can’t except that she chose Tom.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fth literary device is a rhetorical question. A rhetorical question is a question to which no answer is expected. A rhetorical question is used to emphasize the obvious answer to what is asked. This is a rhetorical question because she doesn’t let the person say anything after she asked the question and she changed the subject quickly so Nick will feel sorry for he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xth literary device is the falling action. The falling action is in a narrative, the action that follows the climax.</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venth literary device is a metaphor. A metaphor is a figure of speech that compares or equates two seemingly unlike things and there is no use of like or as.  The metaphor compares the distance that has separated Gatsby and Daisy to the distance between a star and the moon and how close Gatsby and Daisy were to each other just like how “close a star” is “to the moo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ighth literary device is the protagonist. The protagonist is the central character in a literary work, around whom the main conflict revolves. Generally, the audience is meant to sympathize with the protagonist. T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agonist in The Great Gatsby is Jay Gatsby because he’s trying to win Daisy back, but he finally realizes it’s a lost cause because Daisy won’t leave Tom for Gatsby. I feel bad for Gatsby because he had to lie to try to get back Daisy, he thought money could buy him happiness, and he has only two people at his funera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093681-DE71-48EB-B428-A987C3FF42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8A06BC-8DCE-4D7A-96CA-EEEB5AEA15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AE157D-1EA1-45C2-BF06-FF15A891C7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43B333-591E-4AE6-B5DF-8F961CF689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4CF033-F431-41D1-8355-9EC85CA695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7CAF2A-2FD3-42DF-8455-3E721C913D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1A23A7-6503-494E-B364-89DCC5C8A4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6F932F-2386-466F-9B76-EE7351D76D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2491E0-0696-4DE5-B35A-0E41DC0862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317526-9868-4046-8997-F4655E33F6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2FDCE6-BFD6-47D1-994D-759A893A58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2DBB4E-31E9-4AEF-AD4B-2A6F939A44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721EF-88D3-43DB-93DE-ECB9A895D5D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ff3399"/>
            </a:gs>
          </a:gsLst>
          <a:path path="rect">
            <a:fillToRect l="50000" t="50000" r="50000" b="50000"/>
          </a:path>
        </a:gradFill>
      </p:bgPr>
    </p:bg>
    <p:spTree>
      <p:nvGrpSpPr>
        <p:cNvPr id="1" name=""/>
        <p:cNvGrpSpPr/>
        <p:nvPr/>
      </p:nvGrpSpPr>
      <p:grpSpPr>
        <a:xfrm>
          <a:off x="0" y="0"/>
          <a:ext cx="0" cy="0"/>
          <a:chOff x="0" y="0"/>
          <a:chExt cx="0" cy="0"/>
        </a:xfrm>
      </p:grpSpPr>
      <p:sp>
        <p:nvSpPr>
          <p:cNvPr id="48" name=""/>
          <p:cNvSpPr txBox="1"/>
          <p:nvPr/>
        </p:nvSpPr>
        <p:spPr>
          <a:xfrm>
            <a:off x="2895480" y="-228600"/>
            <a:ext cx="3143520" cy="257184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The Great Gatsby</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49" name=""/>
          <p:cNvSpPr txBox="1"/>
          <p:nvPr/>
        </p:nvSpPr>
        <p:spPr>
          <a:xfrm>
            <a:off x="1981080" y="3124080"/>
            <a:ext cx="511488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By: Frances Scott Fitzgerald</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50" name=""/>
          <p:cNvSpPr txBox="1"/>
          <p:nvPr/>
        </p:nvSpPr>
        <p:spPr>
          <a:xfrm>
            <a:off x="609480" y="4495680"/>
            <a:ext cx="7782120" cy="1084320"/>
          </a:xfrm>
          <a:prstGeom prst="rect">
            <a:avLst/>
          </a:prstGeom>
        </p:spPr>
        <p:txBody>
          <a:bodyPr wrap="none" lIns="90000" rIns="90000" tIns="46800" bIns="46800" anchor="t" anchorCtr="1">
            <a:prstTxWarp prst="textWave2">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Powerpoint by: Rachel Waldner</a:t>
            </a:r>
            <a:endPar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99cc00"/>
            </a:gs>
            <a:gs pos="100000">
              <a:srgbClr val="000000"/>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Page 8, third paragraph, Nick said this</a:t>
            </a:r>
            <a:r>
              <a:rPr b="0" lang="en-US" sz="3200" spc="-1" strike="noStrike">
                <a:solidFill>
                  <a:srgbClr val="333399"/>
                </a:solidFill>
                <a:latin typeface="Arial"/>
              </a:rPr>
              <a:t> “A breeze blew through the room, blew curtains in at one end and out the other </a:t>
            </a:r>
            <a:r>
              <a:rPr b="0" lang="en-US" sz="3200" spc="-1" strike="noStrike">
                <a:solidFill>
                  <a:srgbClr val="ffffff"/>
                </a:solidFill>
                <a:latin typeface="Arial"/>
              </a:rPr>
              <a:t>like</a:t>
            </a:r>
            <a:r>
              <a:rPr b="0" lang="en-US" sz="3200" spc="-1" strike="noStrike">
                <a:solidFill>
                  <a:srgbClr val="333399"/>
                </a:solidFill>
                <a:latin typeface="Arial"/>
              </a:rPr>
              <a:t> pale flags, twisting them up toward the frosted wedding-cake of the ceiling, and then rippled over the wine-colored rug, making a shadow on it </a:t>
            </a:r>
            <a:r>
              <a:rPr b="0" lang="en-US" sz="3200" spc="-1" strike="noStrike">
                <a:solidFill>
                  <a:srgbClr val="ffffff"/>
                </a:solidFill>
                <a:latin typeface="Arial"/>
              </a:rPr>
              <a:t>as</a:t>
            </a:r>
            <a:r>
              <a:rPr b="0" lang="en-US" sz="3200" spc="-1" strike="noStrike">
                <a:solidFill>
                  <a:srgbClr val="333399"/>
                </a:solidFill>
                <a:latin typeface="Arial"/>
              </a:rPr>
              <a:t> wind does on sea.</a:t>
            </a:r>
            <a:endParaRPr b="0" lang="en-US" sz="3200" spc="-1" strike="noStrike">
              <a:solidFill>
                <a:srgbClr val="000000"/>
              </a:solidFill>
              <a:latin typeface="Arial"/>
            </a:endParaRPr>
          </a:p>
        </p:txBody>
      </p:sp>
      <p:sp>
        <p:nvSpPr>
          <p:cNvPr id="70" name=""/>
          <p:cNvSpPr txBox="1"/>
          <p:nvPr/>
        </p:nvSpPr>
        <p:spPr>
          <a:xfrm>
            <a:off x="990720" y="228600"/>
            <a:ext cx="7162560" cy="1143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Simile</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47ff"/>
            </a:gs>
          </a:gsLst>
          <a:path path="rect">
            <a:fillToRect l="50000" t="50000" r="50000" b="50000"/>
          </a:path>
        </a:gra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age 94, third paragraph, Gatsby said this</a:t>
            </a:r>
            <a:r>
              <a:rPr b="0" lang="en-US" sz="3200" spc="-1" strike="noStrike">
                <a:solidFill>
                  <a:srgbClr val="ffffff"/>
                </a:solidFill>
                <a:latin typeface="Arial"/>
              </a:rPr>
              <a:t> “You always have a green light that burns all night at the end of your dock.”</a:t>
            </a:r>
            <a:endParaRPr b="0" lang="en-US" sz="3200" spc="-1" strike="noStrike">
              <a:solidFill>
                <a:srgbClr val="000000"/>
              </a:solidFill>
              <a:latin typeface="Arial"/>
            </a:endParaRPr>
          </a:p>
        </p:txBody>
      </p:sp>
      <p:sp>
        <p:nvSpPr>
          <p:cNvPr id="72" name=""/>
          <p:cNvSpPr txBox="1"/>
          <p:nvPr/>
        </p:nvSpPr>
        <p:spPr>
          <a:xfrm>
            <a:off x="1828800" y="304920"/>
            <a:ext cx="5715000" cy="1009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Symbol</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50000">
              <a:srgbClr val="ff3399"/>
            </a:gs>
            <a:gs pos="100000">
              <a:srgbClr val="3366ff"/>
            </a:gs>
          </a:gsLst>
          <a:lin ang="5400000"/>
        </a:gradFill>
      </p:bgPr>
    </p:bg>
    <p:spTree>
      <p:nvGrpSpPr>
        <p:cNvPr id="1" name=""/>
        <p:cNvGrpSpPr/>
        <p:nvPr/>
      </p:nvGrpSpPr>
      <p:grpSpPr>
        <a:xfrm>
          <a:off x="0" y="0"/>
          <a:ext cx="0" cy="0"/>
          <a:chOff x="0" y="0"/>
          <a:chExt cx="0" cy="0"/>
        </a:xfrm>
      </p:grpSpPr>
      <p:sp>
        <p:nvSpPr>
          <p:cNvPr id="73" name=""/>
          <p:cNvSpPr txBox="1"/>
          <p:nvPr/>
        </p:nvSpPr>
        <p:spPr>
          <a:xfrm>
            <a:off x="2666880" y="2514600"/>
            <a:ext cx="3510000" cy="1290600"/>
          </a:xfrm>
          <a:prstGeom prst="rect">
            <a:avLst/>
          </a:prstGeom>
        </p:spPr>
        <p:txBody>
          <a:bodyPr wrap="none" fromWordArt="1" lIns="90000" rIns="90000" tIns="46800" bIns="46800" anchor="t" anchorCtr="1">
            <a:prstTxWarp prst="textCircle">
              <a:avLst>
                <a:gd name="adj" fmla="val 1086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The End</a:t>
            </a:r>
            <a:endParaRPr b="0" lang="en-US"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99"/>
            </a:gs>
            <a:gs pos="100000">
              <a:srgbClr val="66ffff"/>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d600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60093"/>
                </a:solidFill>
                <a:latin typeface="Arial"/>
              </a:rPr>
              <a:t>Page 1, third paragraph</a:t>
            </a:r>
            <a:r>
              <a:rPr b="0" lang="en-US" sz="3200" spc="-1" strike="noStrike">
                <a:solidFill>
                  <a:srgbClr val="d60093"/>
                </a:solidFill>
                <a:latin typeface="Arial"/>
              </a:rPr>
              <a:t>, Nick said this “I am still a little afraid of missing something if I forget that, as my father snobbishly suggested, and I snobbishly repeat, a sense of the fundamental decencies is parcelled out unequally at birth.”</a:t>
            </a:r>
            <a:endParaRPr b="0" lang="en-US" sz="3200" spc="-1" strike="noStrike">
              <a:solidFill>
                <a:srgbClr val="000000"/>
              </a:solidFill>
              <a:latin typeface="Arial"/>
            </a:endParaRPr>
          </a:p>
        </p:txBody>
      </p:sp>
      <p:sp>
        <p:nvSpPr>
          <p:cNvPr id="52" name=""/>
          <p:cNvSpPr txBox="1"/>
          <p:nvPr/>
        </p:nvSpPr>
        <p:spPr>
          <a:xfrm>
            <a:off x="1523880" y="304920"/>
            <a:ext cx="579132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Alliteration</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50000">
              <a:srgbClr val="03d4a8"/>
            </a:gs>
            <a:gs pos="100000">
              <a:srgbClr val="005cbf"/>
            </a:gs>
          </a:gsLst>
          <a:lin ang="8100000"/>
        </a:gra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age 128, first paragraph</a:t>
            </a:r>
            <a:r>
              <a:rPr b="0" lang="en-US" sz="3200" spc="-1" strike="noStrike">
                <a:solidFill>
                  <a:srgbClr val="ffff00"/>
                </a:solidFill>
                <a:latin typeface="Arial"/>
              </a:rPr>
              <a:t>, Nick said this “As Tom took up the receiver the compressed heat exploded into sound and we were listening to the portentous chords of </a:t>
            </a:r>
            <a:r>
              <a:rPr b="0" lang="en-US" sz="3200" spc="-1" strike="noStrike" u="sng">
                <a:solidFill>
                  <a:srgbClr val="ffff00"/>
                </a:solidFill>
                <a:uFillTx/>
                <a:latin typeface="Arial"/>
              </a:rPr>
              <a:t>Mendelssohn’s Wedding March</a:t>
            </a:r>
            <a:r>
              <a:rPr b="0" lang="en-US" sz="3200" spc="-1" strike="noStrike">
                <a:solidFill>
                  <a:srgbClr val="ffff00"/>
                </a:solidFill>
                <a:latin typeface="Arial"/>
              </a:rPr>
              <a:t> from the ballroom below.”</a:t>
            </a:r>
            <a:endParaRPr b="0" lang="en-US" sz="3200" spc="-1" strike="noStrike">
              <a:solidFill>
                <a:srgbClr val="000000"/>
              </a:solidFill>
              <a:latin typeface="Arial"/>
            </a:endParaRPr>
          </a:p>
        </p:txBody>
      </p:sp>
      <p:sp>
        <p:nvSpPr>
          <p:cNvPr id="54" name=""/>
          <p:cNvSpPr txBox="1"/>
          <p:nvPr/>
        </p:nvSpPr>
        <p:spPr>
          <a:xfrm>
            <a:off x="1828800" y="0"/>
            <a:ext cx="5105520" cy="114300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Allusion</a:t>
            </a:r>
            <a:endPar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ff"/>
                </a:solidFill>
                <a:latin typeface="Arial"/>
              </a:rPr>
              <a:t>Page 37, fourth paragraph,</a:t>
            </a:r>
            <a:r>
              <a:rPr b="0" lang="en-US" sz="3200" spc="-1" strike="noStrike">
                <a:solidFill>
                  <a:srgbClr val="6699ff"/>
                </a:solidFill>
                <a:latin typeface="Arial"/>
              </a:rPr>
              <a:t> Nick said this “Some time toward midnight </a:t>
            </a:r>
            <a:r>
              <a:rPr b="0" lang="en-US" sz="3200" spc="-1" strike="noStrike">
                <a:solidFill>
                  <a:srgbClr val="990099"/>
                </a:solidFill>
                <a:latin typeface="Arial"/>
              </a:rPr>
              <a:t>Tom Buchanan</a:t>
            </a:r>
            <a:r>
              <a:rPr b="0" lang="en-US" sz="3200" spc="-1" strike="noStrike">
                <a:solidFill>
                  <a:srgbClr val="6699ff"/>
                </a:solidFill>
                <a:latin typeface="Arial"/>
              </a:rPr>
              <a:t> and Mrs. Wilson stood face to face, discussing in impassioned voices whether Mrs. Wilson had any right to mention Daisy’s name.”</a:t>
            </a:r>
            <a:endParaRPr b="0" lang="en-US" sz="3200" spc="-1" strike="noStrike">
              <a:solidFill>
                <a:srgbClr val="000000"/>
              </a:solidFill>
              <a:latin typeface="Arial"/>
            </a:endParaRPr>
          </a:p>
          <a:p>
            <a:pPr marL="343080" indent="-343080">
              <a:lnSpc>
                <a:spcPct val="90000"/>
              </a:lnSpc>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99ff"/>
                </a:solidFill>
                <a:latin typeface="Arial"/>
              </a:rPr>
              <a:t>Tom’s mistress- Mrs. Myrtle Wilson</a:t>
            </a:r>
            <a:endParaRPr b="0" lang="en-US" sz="3200" spc="-1" strike="noStrike">
              <a:solidFill>
                <a:srgbClr val="000000"/>
              </a:solidFill>
              <a:latin typeface="Arial"/>
            </a:endParaRPr>
          </a:p>
          <a:p>
            <a:pPr marL="343080" indent="-343080">
              <a:lnSpc>
                <a:spcPct val="90000"/>
              </a:lnSpc>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99ff"/>
                </a:solidFill>
                <a:latin typeface="Arial"/>
              </a:rPr>
              <a:t>Tom’s wife- Daisy Buchanan</a:t>
            </a:r>
            <a:endParaRPr b="0" lang="en-US" sz="3200" spc="-1" strike="noStrike">
              <a:solidFill>
                <a:srgbClr val="000000"/>
              </a:solidFill>
              <a:latin typeface="Arial"/>
            </a:endParaRPr>
          </a:p>
        </p:txBody>
      </p:sp>
      <p:sp>
        <p:nvSpPr>
          <p:cNvPr id="56" name=""/>
          <p:cNvSpPr txBox="1"/>
          <p:nvPr/>
        </p:nvSpPr>
        <p:spPr>
          <a:xfrm>
            <a:off x="2286000" y="228600"/>
            <a:ext cx="441972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Antagonist</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ffff00"/>
            </a:gs>
            <a:gs pos="100000">
              <a:srgbClr val="333399"/>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Page 131, fifth paragraph and down “Your wife doesn’t love you,” said Gatsby. “She’s never loved you. She loves me.”</a:t>
            </a: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a:t>
            </a:r>
            <a:r>
              <a:rPr b="0" lang="en-US" sz="2800" spc="-1" strike="noStrike">
                <a:solidFill>
                  <a:srgbClr val="ff0000"/>
                </a:solidFill>
                <a:latin typeface="Arial"/>
              </a:rPr>
              <a:t>You must be crazy!” exclaimed Tom automatically</a:t>
            </a: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Gatsby sprang to his feet, vivid with excitement. “She never loved you, do you hear?” he cried. “She only married you because I was poor and she was tired of waiting for me. It was a terrible mistake, but in her heart she never loved and one except me!” - Gatsby also said this.</a:t>
            </a:r>
            <a:endParaRPr b="0" lang="en-US" sz="2800" spc="-1" strike="noStrike">
              <a:solidFill>
                <a:srgbClr val="000000"/>
              </a:solidFill>
              <a:latin typeface="Arial"/>
            </a:endParaRPr>
          </a:p>
        </p:txBody>
      </p:sp>
      <p:sp>
        <p:nvSpPr>
          <p:cNvPr id="58" name=""/>
          <p:cNvSpPr txBox="1"/>
          <p:nvPr/>
        </p:nvSpPr>
        <p:spPr>
          <a:xfrm>
            <a:off x="1371600" y="0"/>
            <a:ext cx="5638680" cy="121932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cc"/>
                    </a:gs>
                    <a:gs pos="100000">
                      <a:srgbClr val="ff9999"/>
                    </a:gs>
                  </a:gsLst>
                  <a:lin ang="5400000"/>
                </a:gradFill>
                <a:latin typeface="Times New Roman"/>
              </a:rPr>
              <a:t>Climax</a:t>
            </a:r>
            <a:endParaRPr b="0" lang="en-US" sz="1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ff6699"/>
            </a:gs>
          </a:gsLst>
          <a:lin ang="8100000"/>
        </a:gra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
          <p:cNvSpPr txBox="1"/>
          <p:nvPr/>
        </p:nvSpPr>
        <p:spPr>
          <a:xfrm>
            <a:off x="1066680" y="762120"/>
            <a:ext cx="624852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Rhetorical Question</a:t>
            </a:r>
            <a:endParaRPr b="0" lang="en-US"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61" name=""/>
          <p:cNvSpPr/>
          <p:nvPr/>
        </p:nvSpPr>
        <p:spPr>
          <a:xfrm>
            <a:off x="762120" y="1752480"/>
            <a:ext cx="754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762120" y="2057400"/>
            <a:ext cx="6400800" cy="253116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33"/>
                </a:solidFill>
                <a:latin typeface="Arial"/>
              </a:rPr>
              <a:t> </a:t>
            </a:r>
            <a:r>
              <a:rPr b="1" lang="en-US" sz="3200" spc="-1" strike="noStrike">
                <a:solidFill>
                  <a:srgbClr val="33cc33"/>
                </a:solidFill>
                <a:latin typeface="Arial"/>
              </a:rPr>
              <a:t>Page 12, fourth or so paragraph, Daisy said this</a:t>
            </a:r>
            <a:r>
              <a:rPr b="0" lang="en-US" sz="3200" spc="-1" strike="noStrike">
                <a:solidFill>
                  <a:srgbClr val="33cc33"/>
                </a:solidFill>
                <a:latin typeface="Arial"/>
              </a:rPr>
              <a:t> “What’ll we plan?” She turned to me helplessly: “What do people pla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99"/>
            </a:gs>
            <a:gs pos="100000">
              <a:srgbClr val="99cc00"/>
            </a:gs>
          </a:gsLst>
          <a:path path="rect">
            <a:fillToRect l="50000" t="50000" r="50000" b="50000"/>
          </a:path>
        </a:gra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ge 162-3, last two paragraphs on each page,</a:t>
            </a:r>
            <a:r>
              <a:rPr b="0" lang="en-US" sz="2400" spc="-1" strike="noStrike">
                <a:solidFill>
                  <a:srgbClr val="ffffff"/>
                </a:solidFill>
                <a:latin typeface="Arial"/>
              </a:rPr>
              <a:t> Nick said this “The chauffeur—he was one of Wolfsheim’s protégés—heard the shots—afterward he could only say the he hadn’t thought anything much about them…..With scarcely a word said, four of us, the chauffeur, butler, gardener, and I, hurried down to the pool….There was a  faint, barely perceptible movement of the water as the fresh flow from one end urged its way toward the drain. With little ripples that were hardly the shadows of waves, the laden mattress moved irregularly down the pool…. a thin red circle in the water. It was after we started with Gatsby toward the house that the gardener saw Wilson’s body a little way off the grass..” </a:t>
            </a:r>
            <a:endParaRPr b="0" lang="en-US" sz="2400" spc="-1" strike="noStrike">
              <a:solidFill>
                <a:srgbClr val="000000"/>
              </a:solidFill>
              <a:latin typeface="Arial"/>
            </a:endParaRPr>
          </a:p>
        </p:txBody>
      </p:sp>
      <p:sp>
        <p:nvSpPr>
          <p:cNvPr id="64" name=""/>
          <p:cNvSpPr txBox="1"/>
          <p:nvPr/>
        </p:nvSpPr>
        <p:spPr>
          <a:xfrm>
            <a:off x="2514600" y="228600"/>
            <a:ext cx="41148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ff"/>
                    </a:gs>
                    <a:gs pos="100000">
                      <a:srgbClr val="ffffff"/>
                    </a:gs>
                  </a:gsLst>
                  <a:lin ang="5400000"/>
                </a:gradFill>
                <a:latin typeface="Times New Roman"/>
              </a:rPr>
              <a:t>Falling Action</a:t>
            </a:r>
            <a:endParaRPr b="0" lang="en-US" sz="18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99"/>
                </a:solidFill>
                <a:latin typeface="Arial"/>
              </a:rPr>
              <a:t>Page 94, third paragraph,</a:t>
            </a:r>
            <a:r>
              <a:rPr b="0" lang="en-US" sz="3200" spc="-1" strike="noStrike">
                <a:solidFill>
                  <a:srgbClr val="ff6699"/>
                </a:solidFill>
                <a:latin typeface="Arial"/>
              </a:rPr>
              <a:t> Nick said this “Compared to the great distance that had separated him from Daisy it had seemed very near to her, almost touching her. It has seemed as close as a star to the moon.”</a:t>
            </a:r>
            <a:endParaRPr b="0" lang="en-US" sz="3200" spc="-1" strike="noStrike">
              <a:solidFill>
                <a:srgbClr val="000000"/>
              </a:solidFill>
              <a:latin typeface="Arial"/>
            </a:endParaRPr>
          </a:p>
        </p:txBody>
      </p:sp>
      <p:sp>
        <p:nvSpPr>
          <p:cNvPr id="66" name=""/>
          <p:cNvSpPr txBox="1"/>
          <p:nvPr/>
        </p:nvSpPr>
        <p:spPr>
          <a:xfrm>
            <a:off x="1828800" y="228600"/>
            <a:ext cx="510552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Metaphor</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60093"/>
            </a:gs>
            <a:gs pos="100000">
              <a:srgbClr val="990099"/>
            </a:gs>
          </a:gsLst>
          <a:path path="rect">
            <a:fillToRect l="50000" t="50000" r="50000" b="50000"/>
          </a:path>
        </a:gra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Page 79, second to last paragraph</a:t>
            </a:r>
            <a:r>
              <a:rPr b="0" lang="en-US" sz="3200" spc="-1" strike="noStrike">
                <a:solidFill>
                  <a:srgbClr val="000000"/>
                </a:solidFill>
                <a:latin typeface="Arial"/>
              </a:rPr>
              <a:t>, Jordan Baker said this “</a:t>
            </a:r>
            <a:r>
              <a:rPr b="0" lang="en-US" sz="3200" spc="-1" strike="noStrike">
                <a:solidFill>
                  <a:srgbClr val="66ffff"/>
                </a:solidFill>
                <a:latin typeface="Arial"/>
              </a:rPr>
              <a:t>Gatsby </a:t>
            </a:r>
            <a:r>
              <a:rPr b="0" lang="en-US" sz="3200" spc="-1" strike="noStrike">
                <a:solidFill>
                  <a:srgbClr val="000000"/>
                </a:solidFill>
                <a:latin typeface="Arial"/>
              </a:rPr>
              <a:t>bought that house so that Daisy would be just across the bay.”</a:t>
            </a:r>
            <a:endParaRPr b="0" lang="en-US" sz="3200" spc="-1" strike="noStrike">
              <a:solidFill>
                <a:srgbClr val="000000"/>
              </a:solidFill>
              <a:latin typeface="Arial"/>
            </a:endParaRPr>
          </a:p>
        </p:txBody>
      </p:sp>
      <p:sp>
        <p:nvSpPr>
          <p:cNvPr id="68" name=""/>
          <p:cNvSpPr txBox="1"/>
          <p:nvPr/>
        </p:nvSpPr>
        <p:spPr>
          <a:xfrm>
            <a:off x="1523880" y="685800"/>
            <a:ext cx="6172200" cy="6858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Protagonist</a:t>
            </a:r>
            <a:endParaRPr b="0" lang="en-US" sz="18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1T22:00:03Z</dcterms:created>
  <dc:creator> Waldner</dc:creator>
  <dc:description/>
  <dc:language>en-US</dc:language>
  <cp:lastModifiedBy> Waldner</cp:lastModifiedBy>
  <dcterms:modified xsi:type="dcterms:W3CDTF">2009-03-31T21:50:29Z</dcterms:modified>
  <cp:revision>12</cp:revision>
  <dc:subject/>
  <dc:title>Slide 1</dc:title>
</cp:coreProperties>
</file>